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509-9430-4C00-A369-A5298DB5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F4C-AF1D-4FAE-AB1D-8C35C7C4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D16-1FC5-44FA-A04D-E939109F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6EB-C018-4464-B19D-7E82D95A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E616-D262-4691-AFAF-8646D284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5D3-A9AF-42DD-97F5-86FE508E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56D3-0258-4EDE-93BF-94AE51A0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4A9-27A4-43D2-8606-9203398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30BA-7DCA-4A9C-BA79-9AA092F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726-F7A1-4414-BC9B-874C4D1D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F72B-8E6E-4CB0-B82B-68DA545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547-8374-4B45-92E2-88DC85F6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F75B-40D3-432F-8596-775B8AE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09E8-3943-4484-9B56-D67BE68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C8D4-5738-485D-9EB8-93B8FB32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173B-AFE3-42C6-974C-05574C1D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946-A101-4D95-9649-394E5324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AD4-5716-4EE2-BF80-821C4158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B1C-8236-4EFA-A759-66E723E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5CC-38A6-44EF-92EF-B141853A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96E-67F0-4DBC-9F60-2DB8B1B2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98-CEAB-40CB-9920-6C6C70F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65C-E3B0-472B-AF24-C553517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FF4-060B-4F7A-BD7B-7D9AAEEA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0AC-F4DF-4BE2-893D-F7EEF4E961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B55-465E-4662-AF61-8FB7083C29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inciples of the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U.S. Constitu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431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480060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aration of Pow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44640" y="1897200"/>
            <a:ext cx="62294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ch Branch of Government has its own responsibilities and limitation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—Congress has the power to make laws and to tax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I—The Executive Branch has the responsibility to carry out the law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ticle III—The Judicial Branch settles disputes over the law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pular Sovereign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09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l authority for government flows from the people and they rule through their elected representatives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Peo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224928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ound in Preamble:  “We the people, in order to form a more perfect union, . . . do ordain and establish this Constitution of the United States.” 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lso in Amendment IX, “The people retain rights not here enumerated.”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vidual Righ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lightenment scholars believed that there were natural or god-given rights that everyone was born with.  They suggested that the whole purpose of any government was to insure these individual righ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eclaration of Independence referred to “unalienable rights,” such as “life, liberty, and the pursuit of happiness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Bill of Rights was added to the U.S. Constitution in 1791 to protect individual rights, or civil libertie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20040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4440" y="624960"/>
            <a:ext cx="70470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he First Ten Amendments to the Constitu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09640" y="1600200"/>
            <a:ext cx="69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Freedom of speech, press, religion, assembly, and the right to petition the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The right to bear arms in state milit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The guarantee that civilians will 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to house sold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8. Protections for those accused of a cr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.  The guarantee that rights not specifically listed are not automatically denied to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The guarantee that the people and states keep the powers not specifically given to the federal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maze"/>
              </a:rPr>
              <a:t>The Bill of R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Importance of Freedom of Speech and Freedom of the Press in a Democratic Socie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y are these two freedoms considered essential to the survival of a democracy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number one reason . . . To allow us to safely criticize our elected leaders and our government’s polici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is believed that, without this freedom, power would fall into the hands of powerful individuals that do not represent the will of the peopl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2d16"/>
                </a:solidFill>
                <a:latin typeface="Arial"/>
              </a:rPr>
              <a:t>The Magna Carta-1215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mited the power of the king by giving certain rights to nobles (later all citizen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from cruel and unusual punish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of life, liberty and prop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right to a fair and speedy trial by ju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tection from taxation without cons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ced the power of government beneath that of the written law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62d16"/>
                </a:solidFill>
                <a:latin typeface="Arial"/>
              </a:rPr>
              <a:t>The English Bill of Rights-1689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ritish royalty agreed to accept this Bill of Rights establishing the supremacy of Parliament and guaranteeing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freedom of speech in Parlia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rights to those accused of cri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eople would elect representatives to make laws and govern.  It was divided into a House of Lords and a House of Comm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 Ideas Upon Which Our Government Was Found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95400" y="1585080"/>
            <a:ext cx="5110560" cy="5015160"/>
            <a:chOff x="1895400" y="1585080"/>
            <a:chExt cx="5110560" cy="5015160"/>
          </a:xfrm>
        </p:grpSpPr>
        <p:sp>
          <p:nvSpPr>
            <p:cNvPr id="99" name="_s70699"/>
            <p:cNvSpPr/>
            <p:nvPr/>
          </p:nvSpPr>
          <p:spPr>
            <a:xfrm flipH="1" flipV="1">
              <a:off x="3431160" y="3374640"/>
              <a:ext cx="50940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70698"/>
            <p:cNvSpPr/>
            <p:nvPr/>
          </p:nvSpPr>
          <p:spPr>
            <a:xfrm>
              <a:off x="2270160" y="23209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mi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over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70697"/>
            <p:cNvSpPr/>
            <p:nvPr/>
          </p:nvSpPr>
          <p:spPr>
            <a:xfrm flipH="1">
              <a:off x="3179520" y="4332960"/>
              <a:ext cx="636480" cy="1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70696"/>
            <p:cNvSpPr/>
            <p:nvPr/>
          </p:nvSpPr>
          <p:spPr>
            <a:xfrm>
              <a:off x="1895400" y="397548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divid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70695"/>
            <p:cNvSpPr/>
            <p:nvPr/>
          </p:nvSpPr>
          <p:spPr>
            <a:xfrm flipH="1">
              <a:off x="3883680" y="4772880"/>
              <a:ext cx="285840" cy="5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70694"/>
            <p:cNvSpPr/>
            <p:nvPr/>
          </p:nvSpPr>
          <p:spPr>
            <a:xfrm>
              <a:off x="2953080" y="52995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ederal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70693"/>
            <p:cNvSpPr/>
            <p:nvPr/>
          </p:nvSpPr>
          <p:spPr>
            <a:xfrm>
              <a:off x="4732560" y="4771080"/>
              <a:ext cx="282960" cy="59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70692"/>
            <p:cNvSpPr/>
            <p:nvPr/>
          </p:nvSpPr>
          <p:spPr>
            <a:xfrm>
              <a:off x="4649760" y="52977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eck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l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70691"/>
            <p:cNvSpPr/>
            <p:nvPr/>
          </p:nvSpPr>
          <p:spPr>
            <a:xfrm>
              <a:off x="5081040" y="4330440"/>
              <a:ext cx="638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70690"/>
            <p:cNvSpPr/>
            <p:nvPr/>
          </p:nvSpPr>
          <p:spPr>
            <a:xfrm>
              <a:off x="5705280" y="397116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pa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 Po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0689"/>
            <p:cNvSpPr/>
            <p:nvPr/>
          </p:nvSpPr>
          <p:spPr>
            <a:xfrm flipV="1">
              <a:off x="4956480" y="3374640"/>
              <a:ext cx="51156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0688"/>
            <p:cNvSpPr/>
            <p:nvPr/>
          </p:nvSpPr>
          <p:spPr>
            <a:xfrm>
              <a:off x="5326560" y="23191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publicanis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70687"/>
            <p:cNvSpPr/>
            <p:nvPr/>
          </p:nvSpPr>
          <p:spPr>
            <a:xfrm flipV="1">
              <a:off x="4448880" y="2883240"/>
              <a:ext cx="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0686"/>
            <p:cNvSpPr/>
            <p:nvPr/>
          </p:nvSpPr>
          <p:spPr>
            <a:xfrm>
              <a:off x="3799440" y="158508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p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overeign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70685"/>
            <p:cNvSpPr/>
            <p:nvPr/>
          </p:nvSpPr>
          <p:spPr>
            <a:xfrm>
              <a:off x="3799440" y="3539520"/>
              <a:ext cx="1300680" cy="1300680"/>
            </a:xfrm>
            <a:prstGeom prst="ellipse">
              <a:avLst/>
            </a:prstGeom>
            <a:solidFill>
              <a:srgbClr val="93d9db"/>
            </a:solidFill>
            <a:ln w="9360">
              <a:solidFill>
                <a:srgbClr val="242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1680" rIns="12168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inci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 the U.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mited Govern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s of government are limited by the constitu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cles I, II, and III of the U.S. Constitution specify the powers and responsibilities of each bran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10880" y="2881440"/>
            <a:ext cx="6769800" cy="1475640"/>
            <a:chOff x="1010880" y="2881440"/>
            <a:chExt cx="6769800" cy="1475640"/>
          </a:xfrm>
        </p:grpSpPr>
        <p:cxnSp>
          <p:nvCxnSpPr>
            <p:cNvPr id="117" name="_s52236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479560" y="2430360"/>
              <a:ext cx="198720" cy="235980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52235"/>
            <p:cNvCxnSpPr>
              <a:stCxn id="121" idx="0"/>
              <a:endCxn id="119" idx="2"/>
            </p:cNvCxnSpPr>
            <p:nvPr/>
          </p:nvCxnSpPr>
          <p:spPr>
            <a:xfrm flipH="1" flipV="1" rot="5400000">
              <a:off x="4298400" y="3608640"/>
              <a:ext cx="198720" cy="360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52234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117240" y="2427480"/>
              <a:ext cx="198720" cy="2365920"/>
            </a:xfrm>
            <a:prstGeom prst="bentConnector3">
              <a:avLst>
                <a:gd name="adj1" fmla="val 495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52230"/>
            <p:cNvSpPr/>
            <p:nvPr/>
          </p:nvSpPr>
          <p:spPr>
            <a:xfrm>
              <a:off x="2212920" y="2881440"/>
              <a:ext cx="4370040" cy="630000"/>
            </a:xfrm>
            <a:prstGeom prst="roundRect">
              <a:avLst>
                <a:gd name="adj" fmla="val 16667"/>
              </a:avLst>
            </a:prstGeom>
            <a:solidFill>
              <a:srgbClr val="ec72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nstitutional Constra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52231"/>
            <p:cNvSpPr/>
            <p:nvPr/>
          </p:nvSpPr>
          <p:spPr>
            <a:xfrm>
              <a:off x="101088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Legislativ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52232"/>
            <p:cNvSpPr/>
            <p:nvPr/>
          </p:nvSpPr>
          <p:spPr>
            <a:xfrm>
              <a:off x="337320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Executive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52233"/>
            <p:cNvSpPr/>
            <p:nvPr/>
          </p:nvSpPr>
          <p:spPr>
            <a:xfrm>
              <a:off x="5735520" y="3709800"/>
              <a:ext cx="2045160" cy="647280"/>
            </a:xfrm>
            <a:prstGeom prst="roundRect">
              <a:avLst>
                <a:gd name="adj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Judicia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publican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643572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ters elect representatives to exercise power for th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cated in Pream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&amp; Article 1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45840" y="3388320"/>
            <a:ext cx="3500280" cy="3033000"/>
            <a:chOff x="5145840" y="3388320"/>
            <a:chExt cx="3500280" cy="3033000"/>
          </a:xfrm>
        </p:grpSpPr>
        <p:sp>
          <p:nvSpPr>
            <p:cNvPr id="127" name="_s56343"/>
            <p:cNvSpPr/>
            <p:nvPr/>
          </p:nvSpPr>
          <p:spPr>
            <a:xfrm flipV="1">
              <a:off x="6312600" y="3387960"/>
              <a:ext cx="1166760" cy="1010520"/>
            </a:xfrm>
            <a:custGeom>
              <a:avLst/>
              <a:gdLst>
                <a:gd name="textAreaLeft" fmla="*/ 418680 w 1166760"/>
                <a:gd name="textAreaRight" fmla="*/ 748080 w 1166760"/>
                <a:gd name="textAreaTop" fmla="*/ 362520 h 1010520"/>
                <a:gd name="textAreaBottom" fmla="*/ 648000 h 10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Law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56339"/>
            <p:cNvSpPr/>
            <p:nvPr/>
          </p:nvSpPr>
          <p:spPr>
            <a:xfrm flipV="1">
              <a:off x="5729040" y="4398480"/>
              <a:ext cx="2333520" cy="1010520"/>
            </a:xfrm>
            <a:custGeom>
              <a:avLst/>
              <a:gdLst>
                <a:gd name="textAreaLeft" fmla="*/ 513000 w 2333520"/>
                <a:gd name="textAreaRight" fmla="*/ 1820520 w 2333520"/>
                <a:gd name="textAreaTop" fmla="*/ 222120 h 1010520"/>
                <a:gd name="textAreaBottom" fmla="*/ 788400 h 101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Representa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56338"/>
            <p:cNvSpPr/>
            <p:nvPr/>
          </p:nvSpPr>
          <p:spPr>
            <a:xfrm flipV="1">
              <a:off x="5145840" y="5409000"/>
              <a:ext cx="3500280" cy="1011960"/>
            </a:xfrm>
            <a:custGeom>
              <a:avLst/>
              <a:gdLst>
                <a:gd name="textAreaLeft" fmla="*/ 607680 w 3500280"/>
                <a:gd name="textAreaRight" fmla="*/ 2892600 w 3500280"/>
                <a:gd name="textAreaTop" fmla="*/ 175680 h 1011960"/>
                <a:gd name="textAreaBottom" fmla="*/ 83628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69ed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800" rIns="55800" tIns="27720" bIns="27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The Voting Publ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cks and Bal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58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f the thr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nches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rcises so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 over t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s, shar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amo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cles I, II, I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31600" y="1016640"/>
            <a:ext cx="5204520" cy="5204520"/>
            <a:chOff x="3531600" y="1016640"/>
            <a:chExt cx="5204520" cy="5204520"/>
          </a:xfrm>
        </p:grpSpPr>
        <p:sp>
          <p:nvSpPr>
            <p:cNvPr id="133" name="_s62472"/>
            <p:cNvSpPr/>
            <p:nvPr/>
          </p:nvSpPr>
          <p:spPr>
            <a:xfrm>
              <a:off x="4229280" y="171432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62473"/>
            <p:cNvSpPr/>
            <p:nvPr/>
          </p:nvSpPr>
          <p:spPr>
            <a:xfrm rot="7200000">
              <a:off x="4228920" y="171396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62475"/>
            <p:cNvSpPr/>
            <p:nvPr/>
          </p:nvSpPr>
          <p:spPr>
            <a:xfrm rot="14400000">
              <a:off x="4228920" y="1713960"/>
              <a:ext cx="3809880" cy="38098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93d9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2470"/>
            <p:cNvSpPr/>
            <p:nvPr/>
          </p:nvSpPr>
          <p:spPr>
            <a:xfrm>
              <a:off x="6927840" y="22446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ident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sue pard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rt can iss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 injunction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op executive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2471"/>
            <p:cNvSpPr/>
            <p:nvPr/>
          </p:nvSpPr>
          <p:spPr>
            <a:xfrm>
              <a:off x="5553000" y="46242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gress confi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ll judici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oint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rt can decl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ws unconstitutiona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2474"/>
            <p:cNvSpPr/>
            <p:nvPr/>
          </p:nvSpPr>
          <p:spPr>
            <a:xfrm>
              <a:off x="4178160" y="224460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ident can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to law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/3rds vote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gress c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ride his ve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715000" y="1752480"/>
            <a:ext cx="171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ecu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9625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d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dic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.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der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is divided between the national and state governments, limiting central po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mendment states: “Powers not delegated to the federal government are reserved to the states and the people.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Federal System under the U.S. Constitu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08880" y="2644200"/>
            <a:ext cx="8604360" cy="2178360"/>
            <a:chOff x="308880" y="2644200"/>
            <a:chExt cx="8604360" cy="2178360"/>
          </a:xfrm>
        </p:grpSpPr>
        <p:sp>
          <p:nvSpPr>
            <p:cNvPr id="147" name="_s64520"/>
            <p:cNvSpPr/>
            <p:nvPr/>
          </p:nvSpPr>
          <p:spPr>
            <a:xfrm>
              <a:off x="4349880" y="2644200"/>
              <a:ext cx="2172960" cy="21736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_s64521"/>
            <p:cNvSpPr/>
            <p:nvPr/>
          </p:nvSpPr>
          <p:spPr>
            <a:xfrm>
              <a:off x="6740280" y="3460680"/>
              <a:ext cx="2172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240" rIns="165240" tIns="82440" bIns="82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Example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owers reserve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for the stat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governmen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64522"/>
            <p:cNvSpPr/>
            <p:nvPr/>
          </p:nvSpPr>
          <p:spPr>
            <a:xfrm>
              <a:off x="2698560" y="2648880"/>
              <a:ext cx="2172960" cy="21736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64523"/>
            <p:cNvSpPr/>
            <p:nvPr/>
          </p:nvSpPr>
          <p:spPr>
            <a:xfrm>
              <a:off x="308880" y="3465720"/>
              <a:ext cx="2172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240" rIns="165240" tIns="82440" bIns="82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Example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powers o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the nationa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ahoma"/>
                </a:rPr>
                <a:t>governme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666880" y="2590920"/>
            <a:ext cx="297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laring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ing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.S.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ining 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8195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ver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ing for public   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48:08Z</dcterms:created>
  <dc:creator>007DP231</dc:creator>
  <dc:description/>
  <dc:language>en-US</dc:language>
  <cp:lastModifiedBy>emily.johnson</cp:lastModifiedBy>
  <dcterms:modified xsi:type="dcterms:W3CDTF">2012-10-02T13:01:47Z</dcterms:modified>
  <cp:revision>32</cp:revision>
  <dc:subject/>
  <dc:title>Designing America</dc:title>
</cp:coreProperties>
</file>